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5D89-F01A-4E5F-A15E-439090FF2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080C-8E80-4479-9C12-B863E3FB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A0AC-9206-4EB1-9D50-2B4C82654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8715-98D8-4258-8DF8-18562137D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289F-D25E-43E0-B46E-0B5D301A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A9A3-89AC-4684-9380-E4E8718D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20CE-AE8A-42F4-80D8-20D51662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3F6C-38B2-4E03-938E-B9068BC0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F3A2-1C5C-4F5F-A7B9-EE2A6E6C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3124-6189-4C9B-8E24-96586DD5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BED5-1DE0-4982-8091-9241D3AE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6FBA-DE92-4630-BD0A-59E7169A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C17D-C51F-4D9B-A20A-375033071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sk.lung.ca/graphics/anatomy/bronchi.gif&amp;imgrefurl=http://www.sk.lung.ca/content.cfm/bronchi&amp;h=151&amp;w=152&amp;sz=2&amp;tbnid=1X1ONCqRIpYJ:&amp;tbnh=88&amp;tbnw=89&amp;start=2&amp;prev=/images?q=bronchi&amp;hl=en&amp;lr=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interq.or.jp/kyuushu/sas/pharynx.gif&amp;imgrefurl=http://www.interq.or.jp/kyuushu/sas/nani.htm&amp;h=385&amp;w=368&amp;sz=7&amp;tbnid=pVRJGTAYM_0J:&amp;tbnh=118&amp;tbnw=112&amp;start=4&amp;prev=/images?q=pharynx&amp;hl=en&amp;lr=&amp;sa=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shno.com/images/larynx.gif" TargetMode="External"/><Relationship Id="rId2" Type="http://schemas.openxmlformats.org/officeDocument/2006/relationships/hyperlink" Target="http://images.google.com/imgres?imgurl=www.ishno.com/images/larynx.gif&amp;imgrefurl=http://www.ishno.com/lar.htm&amp;h=217&amp;w=265&amp;sz=23&amp;tbnid=ZjTkp3koqrcJ:&amp;tbnh=88&amp;tbnw=107&amp;start=1&amp;prev=/images?q=larynx&amp;hl=en&amp;lr=" TargetMode="External"/><Relationship Id="rId3" Type="http://schemas.openxmlformats.org/officeDocument/2006/relationships/hyperlink" Target="http://images.google.com/imgres?imgurl=www1.appstate.edu/~clarkhm/swallow_distance/images/larynx.jpg&amp;imgrefurl=http://www1.appstate.edu/~clarkhm/swallow_distance/page2.htm&amp;h=549&amp;w=753&amp;sz=43&amp;tbnid=R5yhI5gb88EJ:&amp;tbnh=102&amp;tbnw=139&amp;start=9&amp;prev=/images?q=larynx&amp;hl=en&amp;lr=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128.196.174.134/resources/content_pages/images_content/tob_rel_images/trachea_larynrx2a.jpg&amp;imgrefurl=http://128.196.174.134/resources/content_pages/Tob_and_Health/Tob_Rel_Illnesses/tri10.htm&amp;h=498&amp;w=339&amp;sz=12&amp;tbnid=9awRsMGOz5kJ:&amp;tbnh=126&amp;tbnw=86&amp;start=12&amp;prev=/images?q=trachea&amp;hl=en&amp;lr=" TargetMode="External"/><Relationship Id="rId2" Type="http://schemas.openxmlformats.org/officeDocument/2006/relationships/hyperlink" Target="http://images.google.com/imgres?imgurl=www.fondazionecarrel.org/carrel/thorac/files/transp/images/trachea.jpg&amp;imgrefurl=http://www.fondazionecarrel.org/carrel/thorac/files/transp/3.htm&amp;h=589&amp;w=674&amp;sz=175&amp;tbnid=EOeKcVe7b74J:&amp;tbnh=119&amp;tbnw=136&amp;start=2&amp;prev=/images?q=trachea&amp;hl=en&amp;lr=" TargetMode="External"/><Relationship Id="rId3" Type="http://schemas.openxmlformats.org/officeDocument/2006/relationships/hyperlink" Target="http://images.google.com/imgres?imgurl=128.196.174.134/resources/content_pages/images_content/tob_rel_images/trachea_larynrx2a.jpg&amp;imgrefurl=http://128.196.174.134/resources/content_pages/Tob_and_Health/Tob_Rel_Illnesses/tri10.htm&amp;h=498&amp;w=339&amp;sz=12&amp;tbnid=9awRsMGOz5kJ:&amp;tbnh=126&amp;tbnw=86&amp;start=12&amp;prev=/images?q=trachea&amp;hl=en&amp;lr=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br>
              <a:rPr sz="4000"/>
            </a:b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e Respiratory System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37.3</a:t>
            </a:r>
            <a:br>
              <a:rPr sz="54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nchi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branches that come off of trach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ube leads to lu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nchioles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ches of the bron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 inside lu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ube is surrounded b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mooth musc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helps control size of passage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nchiti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flammation and irritation of bronchi and bronchi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bronch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3080" y="1219320"/>
            <a:ext cx="221004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veoli 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structures at the end of each bronchi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 in clu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 gas exchange occ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gen into blood, carbon dioxide into lu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rounded by capilla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asthma-alveoli"/>
          <p:cNvPicPr/>
          <p:nvPr/>
        </p:nvPicPr>
        <p:blipFill>
          <a:blip r:embed="rId1"/>
          <a:stretch/>
        </p:blipFill>
        <p:spPr>
          <a:xfrm>
            <a:off x="6477120" y="4267080"/>
            <a:ext cx="228600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 Exchange and Hemoglob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0 million alveoli are in a healthy 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 surface area for gas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ygen dissolves in the moisture in the alve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then diffu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capill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dioxide diffus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n the opposite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 Exchange and Hemoglob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oglobin binds with so much oxygen that it increases the oxygen carrying- capacity of the blood more than 60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t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thing is the movement of air into and out of the lu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that drives breathing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ir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uscles are directly connected to the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t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ngs sit in two sacs = pleural membra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bottom of the chest cavity is the diaphrag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ha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inhale, the diaphragm contracts and expands the volume of the chest c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e chest cavity is tightly sealed, this creates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rtial vacu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ide the c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 rushes into the lungs as a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ha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haling is a passive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phragm relaxes and lungs return to normal size, placing pressure on the lu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 rushes out of the lungs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cow lungs 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thing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thing is voluntary to a point, then it becomes involun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vous system will take 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ulla oblong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brain reads the amount of carbon dioxide in the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level of carbon dioxide gets too high, the diaphragm will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ion is the exchange of gases between an organism and th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humans, as with most organisms, it is the release of carbon dioxide and the uptake of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spira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sic function performed by the respiratory system in humans is to bring about the exchange of oxygen and carbon dioxide between the blood, the air, and t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s of the Respira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piratory system consists of the nose/mouth, pharynx, larynx, trachea, bronchi, bronchioles, and alve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blood vessels are included in the respiratory system, especially the pulmonary artery, pulmonary vein, and capilla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e/Mouth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 enters the respiratory system through these two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 is filtered, warmed, and moist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HM00388_"/>
          <p:cNvPicPr/>
          <p:nvPr/>
        </p:nvPicPr>
        <p:blipFill>
          <a:blip r:embed="rId1"/>
          <a:stretch/>
        </p:blipFill>
        <p:spPr>
          <a:xfrm>
            <a:off x="304920" y="3886200"/>
            <a:ext cx="2420640" cy="2438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HM00387_"/>
          <p:cNvPicPr/>
          <p:nvPr/>
        </p:nvPicPr>
        <p:blipFill>
          <a:blip r:embed="rId2"/>
          <a:stretch/>
        </p:blipFill>
        <p:spPr>
          <a:xfrm>
            <a:off x="3505320" y="4267080"/>
            <a:ext cx="44337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uman Respira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hin layer of mucus is produced on the lining of the tubes of the respirator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hin layer traps particles of dust or sm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lia clean the passageways by sweeping the dirt away from the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rynx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 of m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 behind the uv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s as a passageway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air and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pharyn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9920" y="2057400"/>
            <a:ext cx="22762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ynx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ce box, Adam’s ap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vocal 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loose flaps of t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 of the trachea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larynx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76920" y="2819520"/>
            <a:ext cx="426708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hea –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be made of cartilage that carries air to the lu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s cells that produce mucus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cus traps dirt found in 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s cil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ny hairs that move dirt out of the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3:14:19Z</dcterms:created>
  <dc:creator>bpalme</dc:creator>
  <dc:description/>
  <dc:language>en-US</dc:language>
  <cp:lastModifiedBy>Preferred Customer</cp:lastModifiedBy>
  <dcterms:modified xsi:type="dcterms:W3CDTF">2010-02-23T08:55:58Z</dcterms:modified>
  <cp:revision>6</cp:revision>
  <dc:subject/>
  <dc:title> Chapter 37.3: The Respiratory System </dc:title>
</cp:coreProperties>
</file>